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172-A2ED-4B48-BA09-DFD29874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A5C-9B6D-4288-B0BE-07571D1B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306-4E26-494C-B99F-D12CB2F5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9A4-D79E-44B5-B68D-844C53DE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188-53CD-44C2-ACED-0091D69C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598B-B047-4C69-8B74-0675FA0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2406-6BFE-40BD-926D-EDDA6287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0D73-8F3D-4A3A-A13F-270FBF6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2D53-6B42-4583-A9BC-364ECA8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0B5F-C946-4C2C-AFC7-35A1EF4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6999-CBA2-4D7F-8489-25DF7B9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70E-D4DA-4467-9520-692FB71F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BCE8-D638-44D9-B0AC-1DD97E0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5B4E-5D34-4F32-A5A1-23D1E31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2426-DB75-458D-A19A-E20D4FEC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073-3650-4DE5-B177-ABC633B9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053F-536D-4911-83C1-F9D15071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369-73F4-4368-9467-EC49C944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A52-6150-4B75-ACE3-13B090A0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D1C-5C4F-4590-970F-2FC8581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67B-C549-4FF4-AE29-97F0D3C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956-C43C-4736-B949-1EC9B74B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4F7-59DF-4E30-9CD5-552DE5C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716-0CC9-4B41-99AE-7BF0C82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020-3F5B-4BD7-83D3-0B0ED6456E2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31E-95DF-4C11-A188-29590A39934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biscom.com/hn02l.htm" TargetMode="External"/><Relationship Id="rId3" Type="http://schemas.openxmlformats.org/officeDocument/2006/relationships/hyperlink" Target="http://www.ibiscom.com/hn02l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0200" y="1684440"/>
            <a:ext cx="4143240" cy="3485880"/>
            <a:chOff x="2500200" y="1684440"/>
            <a:chExt cx="4143240" cy="3485880"/>
          </a:xfrm>
        </p:grpSpPr>
        <p:grpSp>
          <p:nvGrpSpPr>
            <p:cNvPr id="89" name=""/>
            <p:cNvGrpSpPr/>
            <p:nvPr/>
          </p:nvGrpSpPr>
          <p:grpSpPr>
            <a:xfrm>
              <a:off x="2504880" y="1688760"/>
              <a:ext cx="4133880" cy="3476160"/>
              <a:chOff x="2504880" y="1688760"/>
              <a:chExt cx="4133880" cy="3476160"/>
            </a:xfrm>
          </p:grpSpPr>
          <p:sp>
            <p:nvSpPr>
              <p:cNvPr id="90" name=""/>
              <p:cNvSpPr/>
              <p:nvPr/>
            </p:nvSpPr>
            <p:spPr>
              <a:xfrm>
                <a:off x="2504880" y="1688760"/>
                <a:ext cx="4133880" cy="347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04880" y="1688760"/>
                <a:ext cx="4133880" cy="3476160"/>
                <a:chOff x="2504880" y="1688760"/>
                <a:chExt cx="4133880" cy="3476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504880" y="1688760"/>
                  <a:ext cx="4133880" cy="347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ffcc"/>
                      </a:solidFill>
                      <a:latin typeface=" verdana"/>
                    </a:rPr>
                    <a:t>  </a:t>
                  </a:r>
                  <a:r>
                    <a:rPr b="0" lang="en-US" sz="21600" spc="-1" strike="noStrike">
                      <a:solidFill>
                        <a:srgbClr val="ffffcc"/>
                      </a:solidFill>
                      <a:latin typeface=" verdana"/>
                    </a:rPr>
                    <a:t> </a:t>
                  </a:r>
                  <a:r>
                    <a:rPr b="0" lang="en-US" sz="600" spc="-1" strike="noStrike">
                      <a:solidFill>
                        <a:srgbClr val="ffffcc"/>
                      </a:solidFill>
                      <a:latin typeface=" 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04880" y="1688760"/>
                  <a:ext cx="4133880" cy="34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2500200" y="1684440"/>
              <a:ext cx="4143240" cy="3485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37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Rochdale in 1780"/>
          <p:cNvPicPr/>
          <p:nvPr/>
        </p:nvPicPr>
        <p:blipFill>
          <a:blip r:embed="rId2"/>
          <a:stretch/>
        </p:blipFill>
        <p:spPr>
          <a:xfrm>
            <a:off x="2057400" y="0"/>
            <a:ext cx="5410080" cy="335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1788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Rochdale in 1890"/>
          <p:cNvPicPr/>
          <p:nvPr/>
        </p:nvPicPr>
        <p:blipFill>
          <a:blip r:embed="rId3"/>
          <a:stretch/>
        </p:blipFill>
        <p:spPr>
          <a:xfrm>
            <a:off x="2133720" y="3603600"/>
            <a:ext cx="5333760" cy="325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1788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22480" y="2209680"/>
            <a:ext cx="3754440" cy="2417760"/>
            <a:chOff x="1122480" y="2209680"/>
            <a:chExt cx="3754440" cy="2417760"/>
          </a:xfrm>
        </p:grpSpPr>
        <p:grpSp>
          <p:nvGrpSpPr>
            <p:cNvPr id="98" name=""/>
            <p:cNvGrpSpPr/>
            <p:nvPr/>
          </p:nvGrpSpPr>
          <p:grpSpPr>
            <a:xfrm>
              <a:off x="1125000" y="2214000"/>
              <a:ext cx="3749400" cy="2408400"/>
              <a:chOff x="1125000" y="2214000"/>
              <a:chExt cx="3749400" cy="24084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1125000" y="2214000"/>
                <a:ext cx="3749400" cy="2408400"/>
                <a:chOff x="1125000" y="2214000"/>
                <a:chExt cx="3749400" cy="2408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127520" y="2218320"/>
                  <a:ext cx="3744360" cy="2399040"/>
                  <a:chOff x="1127520" y="2218320"/>
                  <a:chExt cx="3744360" cy="239904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1164600" y="2218320"/>
                    <a:ext cx="3669840" cy="2399040"/>
                    <a:chOff x="1164600" y="2218320"/>
                    <a:chExt cx="3669840" cy="239904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1164600" y="2218320"/>
                      <a:ext cx="36698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1164600" y="2218320"/>
                      <a:ext cx="3669840" cy="2399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cc66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3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" name=""/>
                  <p:cNvSpPr/>
                  <p:nvPr/>
                </p:nvSpPr>
                <p:spPr>
                  <a:xfrm>
                    <a:off x="1127520" y="2218320"/>
                    <a:ext cx="3744360" cy="2399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1125000" y="2214000"/>
                  <a:ext cx="3749400" cy="240840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125000" y="2214000"/>
                <a:ext cx="3749400" cy="240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22480" y="2209680"/>
              <a:ext cx="3754440" cy="2417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8" name="" descr="Young Min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371600"/>
            <a:ext cx="6480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0" r="0" b="12382"/>
          <a:stretch/>
        </p:blipFill>
        <p:spPr>
          <a:xfrm>
            <a:off x="1523880" y="1447920"/>
            <a:ext cx="6202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5856120" cy="356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00400" y="3429000"/>
            <a:ext cx="5410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4647960" cy="311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4267080" cy="340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127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65534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114800" y="2286000"/>
            <a:ext cx="4816440" cy="36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39625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4800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7048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19:36Z</dcterms:created>
  <dc:creator>jbmugavero</dc:creator>
  <dc:description/>
  <dc:language>en-US</dc:language>
  <cp:lastModifiedBy>Susan Vanderpool</cp:lastModifiedBy>
  <dcterms:modified xsi:type="dcterms:W3CDTF">2007-01-04T04:13:30Z</dcterms:modified>
  <cp:revision>2</cp:revision>
  <dc:subject/>
  <dc:title>Thursday Tidings</dc:title>
</cp:coreProperties>
</file>